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8A0839A0-02DB-4D3B-BE0D-06636D065F8C}" type="datetime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260E3E1B-508E-4402-BEDE-82E1719CA3C2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om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rt b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a sort order for the copies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ll Numb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e/Time Copies Add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rom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ased 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a method for identifying the copies to include: List, copy category, or barcode list. To review the contents of the Resource List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 Li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you chose Date/Time Copies Added, enter a beginning date and time next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an ending date and time next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lick the calendar icon for a calend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elect your label stock and the starting lab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elect the font size for the spine lab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If you do not want the printing to start a new line after each space in the call number, clear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a new line at every spa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ck bo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o generate the label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 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hen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port Manag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open the label repo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rint patron barcodes in two ways. First under patron lists and barcode lists and second, labels/cards and barcode labels. To print an entire group of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rco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abels or a list of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rcod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pen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tron Repor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por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rcode Labe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see used and unused barcode numbers. First let’s print a used barcode number. Select used barcode number. Select a method for identifying the patrons to include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atron Na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e Leve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uation Yea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ero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e of the User-Defined field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st of Pa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e Patron Add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rcode Li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 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When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port Manag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open the label report. The report will open for you to view and pr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int unused barcodes, under list patron, select unused barcode number. Enter the quantity of labels needed. Enter the starting barcode number and barcode range.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 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When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port Manag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open the label report. The report will open for you to view and pr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Reports tab, click on library reports on the left. Under the list labels, click on barcode lab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lace the number of labels for each bar code. 2. Choose the way you want the labels sorted: Author/Title, Call Number/Author, Title/Author, or Date/Time Copies Added. 3. From the Select by list, select a method for identifying the copies to inclu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: If you have multiple Resource Lists, select the one needing the label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view the contents of the Resource List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 Li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Category: Select a copy category from the li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arcode Li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Either create a new list, or select an existing barcode fi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ntering a date and time is optio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imit the labels to copies of a single material type, select one from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terial 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imit the labels to copies of one or more Circulation Type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pd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ext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irculation Typ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select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include barcode labels for temporary copies, select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lude temporary cop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ck bo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any of the check boxes to include additional information on the label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code labels always have the scannable barcode and the eye-readable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your label stock and the starting lab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 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Report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Manag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open the label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to pr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Reports tab, click on library reports on the left. Under the list labels, click on barcode lab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7D9-221B-4AE9-9C9D-47210D94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94C-6BF8-4CA6-B7CA-6EC70B9F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3D3-CD74-4A81-9D91-D066AE57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C9A-F693-4A26-A6F5-E057A49A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0C4C-2670-41F2-ADD1-8E2279D7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E4E6-CEDE-4262-83CC-3666ECB5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9089-E519-44F2-A9C3-F0F4E1E8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E235-5C5D-475A-B33C-F432982A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C6C9-1EEE-4E00-80F8-44F1DD50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480C-18D2-4364-9E53-27889DE6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3080-B806-47E7-A71E-22F25944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3DB-9ADA-4E3E-BD07-0CB12C46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6022-E2DA-4E87-9637-CEDEEB62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B3E1-2297-4D7E-9007-4707CDE5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685F-050B-4E59-9ECE-8409E524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9BA5-3AE0-4089-8F3A-C9AB5668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F7F9-623E-42A9-8558-20C9FE9D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FCB1B-68FC-437B-A279-76F08C0C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25E61-697A-409A-A608-4C68BDD0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6D014-F85E-4AA5-B6A8-2AEB750E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4DDE4-3894-4B1B-B2EC-1F8C0522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C7B86-837D-4B4D-86A5-4E963D2A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266-5696-4090-B01A-0998B177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35DEF-7E6B-4082-ABAF-2AE33CF2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6F043-20F7-4F78-BC9F-03C86ADD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DA2B5-ED18-444E-8C44-82675432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E989A-2CC4-442D-9699-F44D7A2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4900E-DFBD-4588-995E-BB14FBB1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F8C00-0615-4F32-9FDE-889D6226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67D2C-CBEB-40E7-AF11-31CD46BF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ED77-5F06-4267-83ED-343179D2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860FE-B012-4576-B25F-5042C2DC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E242-AB88-425F-AE3F-C9A9553C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0FD-4501-4E17-BE67-CC409E2B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187B-A06E-45B8-8335-6A583707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EDDA-0F5A-47A9-B8C1-6A0D418C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96A0-5BFE-41F7-B464-B7E08CBF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0122-FA0E-449C-BEBA-807974D9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01032-46E8-467B-B7EE-31414543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34655-1056-4387-9159-ED28B75A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489C-DEB3-427E-856A-79EFEEE5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7F755-6633-4908-BE7C-A7E222B7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2EA6-8814-48CC-B88F-11359966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A3154-D724-456F-A3E1-08C2FF11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51F-4850-4480-B79D-FC64872A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38B52-A66A-4C6C-AEFA-AF11061D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06659-A22A-4864-B005-1E0F49A5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732FC-EBA3-48BA-8A5D-04403CBA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B73C0-770C-4724-9B23-08B027C4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FD2A3-649D-4748-9838-9C8A2FBB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3D535-FC37-4ECA-A0B4-5DFC6BF2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61651-5A39-4ED6-AD21-CDF336B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54400-590C-44C5-9540-7754BD78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AD4B2-9ACD-4085-BE38-0D19A7EF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9FE16-43FF-4BEE-BB9A-1684A911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146-A298-4AAA-8E31-D6506D90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672CE-63AF-4BFA-AA75-CAD055C8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116AE-C272-4018-9F46-EA59D23D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BD907-1CCD-4985-8A01-6CBF600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1DDE7-2EED-49F8-B3DB-3EC984A8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651D1-056F-46E9-8A1D-0CDC1ECE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4237E-930E-414B-BDC1-80D6C175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692B2-2E14-44EC-B981-0EAD3BC3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D9131-A8EE-40FC-B9B0-205014A0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3EFF8-7FF3-4B66-ABE8-FCD09FFE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8E87D-E8E7-4A79-AD5D-812B9526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F54-E0C6-4064-9743-BCC2EE60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B2AC2-634E-4AF8-B3B9-CA185EB3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76DB6-80A6-46D1-B85F-4DAEF8F6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6AF2A-B344-44CF-A73C-4B21AF07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FEB9A-D171-4048-A83B-DFA47EAA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D441E-5C4C-4409-80A9-16DD1157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8F00F-30B6-49A7-A4C5-C00B94D2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2EEB0-A6E8-4CB7-B20C-9D4E9AD0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6D8EA-248D-48AC-9513-48567BD4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D6FA8-5CBF-40DC-A0FE-7831B333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BF3A7-3605-43E4-BCDA-B2327CA4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3DB-0EC6-4F6C-8CDC-6064377D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3F9B0-8837-4C14-AD51-AB60CE62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FDC9D-CB61-4C74-9A33-98FF63A3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ACE41-336B-4B75-A6AC-38E3930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652E3-944D-4D5F-A819-F97E0B85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2820A-C57E-42E1-A4C0-B5E9CA10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180-8564-4EBB-91E9-17AE8A3D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0F767-B5E4-496B-A033-84FD251AA967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634D6-459C-4D8D-AAC0-ADAD9DDCBF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CC89D-4788-4848-8CAE-2D495F3A145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4CD0A-D30E-461A-8022-B43FF6C5770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3E98E-7C64-4260-8119-6AAB05A22B1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BFA37-F0EC-46C9-9558-672B13238F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6F64D-06BC-4825-822B-582C314C223C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F25CA-F15E-46EC-8401-CC4BE71E63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1960B-FB4B-4166-B446-991C6741C90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12F09-2B43-4D08-8A02-9CB9E21BEB2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EF641-D78E-4F67-877D-D0D4F351736A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F501F-8804-4025-9338-0B7E2302B19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216E4-9E4D-4E67-81FD-11B1C57FF6B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A0A78-6535-4D45-9775-3017E87C711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ection Four: Reports and Utilities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5" descr="banner4_103112"/>
          <p:cNvPicPr/>
          <p:nvPr/>
        </p:nvPicPr>
        <p:blipFill>
          <a:blip r:embed="rId1"/>
          <a:stretch/>
        </p:blipFill>
        <p:spPr>
          <a:xfrm>
            <a:off x="923760" y="1665360"/>
            <a:ext cx="7000920" cy="3552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535200" y="5692680"/>
            <a:ext cx="18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erne Pr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T 7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042080" y="49888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Folle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Barcodes_LLP4.ppt256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Spine Label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1"/>
          <a:srcRect l="21551" t="18137" r="8413" b="33895"/>
          <a:stretch/>
        </p:blipFill>
        <p:spPr>
          <a:xfrm>
            <a:off x="1428840" y="1866960"/>
            <a:ext cx="6315120" cy="4734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1995480" y="2666880"/>
            <a:ext cx="116676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7"/>
          <p:cNvSpPr/>
          <p:nvPr/>
        </p:nvSpPr>
        <p:spPr>
          <a:xfrm>
            <a:off x="2647800" y="2914560"/>
            <a:ext cx="609840" cy="3248280"/>
          </a:xfrm>
          <a:custGeom>
            <a:avLst/>
            <a:gdLst>
              <a:gd name="textAreaLeft" fmla="*/ 389520 w 609840"/>
              <a:gd name="textAreaRight" fmla="*/ 610200 w 609840"/>
              <a:gd name="textAreaTop" fmla="*/ 84600 h 3248280"/>
              <a:gd name="textAreaBottom" fmla="*/ 3163680 h 324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4424400" y="5896080"/>
            <a:ext cx="60012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Barcodes_LLP4.ppt292-1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28520" y="355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Barcodes/Spine Labels, and Running an Unused Barcode Re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rcRect l="18367" t="21889" r="6505" b="26126"/>
          <a:stretch/>
        </p:blipFill>
        <p:spPr>
          <a:xfrm>
            <a:off x="665280" y="1781280"/>
            <a:ext cx="7697520" cy="41241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 rot="5400000">
            <a:off x="2898360" y="1838160"/>
            <a:ext cx="24120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Barcodes_LLP4.ppt262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52120" y="199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Barcodes for Patr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rcRect l="2615" t="17428" r="21557" b="32153"/>
          <a:stretch/>
        </p:blipFill>
        <p:spPr>
          <a:xfrm>
            <a:off x="1523880" y="1619280"/>
            <a:ext cx="6091200" cy="44766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1523880" y="2771640"/>
            <a:ext cx="53820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33720" y="1889280"/>
            <a:ext cx="538200" cy="23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482920" y="3638520"/>
            <a:ext cx="53820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Barcodes_LLP4.ppt284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52120" y="199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Used Barcodes for Patr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191120" y="2346480"/>
            <a:ext cx="538200" cy="23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rcRect l="2358" t="17385" r="20495" b="53238"/>
          <a:stretch/>
        </p:blipFill>
        <p:spPr>
          <a:xfrm>
            <a:off x="1762200" y="1461960"/>
            <a:ext cx="5086440" cy="13575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2685960" y="1886040"/>
            <a:ext cx="1086120" cy="695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9" descr=""/>
          <p:cNvPicPr/>
          <p:nvPr/>
        </p:nvPicPr>
        <p:blipFill>
          <a:blip r:embed="rId2"/>
          <a:srcRect l="1874" t="17716" r="23582" b="51748"/>
          <a:stretch/>
        </p:blipFill>
        <p:spPr>
          <a:xfrm>
            <a:off x="852480" y="3019320"/>
            <a:ext cx="6932520" cy="3054600"/>
          </a:xfrm>
          <a:prstGeom prst="rect">
            <a:avLst/>
          </a:prstGeom>
          <a:ln w="0">
            <a:noFill/>
          </a:ln>
        </p:spPr>
      </p:pic>
      <p:pic>
        <p:nvPicPr>
          <p:cNvPr id="378" name="Barcodes_LLP4.ppt285-3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52120" y="199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 Unused Barcodes for Patr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1"/>
          <a:srcRect l="1874" t="17716" r="23582" b="51748"/>
          <a:stretch/>
        </p:blipFill>
        <p:spPr>
          <a:xfrm>
            <a:off x="852480" y="3571920"/>
            <a:ext cx="6932520" cy="3114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"/>
          <p:cNvPicPr/>
          <p:nvPr/>
        </p:nvPicPr>
        <p:blipFill>
          <a:blip r:embed="rId2"/>
          <a:srcRect l="2747" t="17723" r="21908" b="40235"/>
          <a:stretch/>
        </p:blipFill>
        <p:spPr>
          <a:xfrm>
            <a:off x="1133640" y="1343160"/>
            <a:ext cx="6148080" cy="19476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2077920" y="1924200"/>
            <a:ext cx="2855880" cy="1180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4197240" y="2797200"/>
            <a:ext cx="538200" cy="307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Barcodes_LLP4.ppt286-3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Used Barcode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rcRect l="1913" t="16222" r="23216" b="13616"/>
          <a:stretch/>
        </p:blipFill>
        <p:spPr>
          <a:xfrm>
            <a:off x="1019160" y="2066760"/>
            <a:ext cx="6657840" cy="407196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1809720" y="5067360"/>
            <a:ext cx="85716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057320" y="2257560"/>
            <a:ext cx="600120" cy="266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Barcodes_LLP4.ppt287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Used Barcode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rcRect l="11480" t="19185" r="13266" b="18080"/>
          <a:stretch/>
        </p:blipFill>
        <p:spPr>
          <a:xfrm>
            <a:off x="519120" y="1781280"/>
            <a:ext cx="7405560" cy="43909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7067520" y="2143080"/>
            <a:ext cx="85716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2038320" y="2543040"/>
            <a:ext cx="609480" cy="3248280"/>
          </a:xfrm>
          <a:custGeom>
            <a:avLst/>
            <a:gdLst>
              <a:gd name="textAreaLeft" fmla="*/ 389520 w 609480"/>
              <a:gd name="textAreaRight" fmla="*/ 609840 w 609480"/>
              <a:gd name="textAreaTop" fmla="*/ 84600 h 3248280"/>
              <a:gd name="textAreaBottom" fmla="*/ 3163680 h 324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4057560" y="5591160"/>
            <a:ext cx="85752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Barcodes_LLP4.ppt290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04680" y="15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Unused Barcode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rcRect l="1913" t="16222" r="23216" b="13616"/>
          <a:stretch/>
        </p:blipFill>
        <p:spPr>
          <a:xfrm>
            <a:off x="695160" y="1417680"/>
            <a:ext cx="3943440" cy="24112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1162080" y="3247920"/>
            <a:ext cx="514440" cy="1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695160" y="1571760"/>
            <a:ext cx="466920" cy="112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2"/>
          <a:srcRect l="21893" t="18451" r="30002" b="40253"/>
          <a:stretch/>
        </p:blipFill>
        <p:spPr>
          <a:xfrm>
            <a:off x="1763640" y="3828960"/>
            <a:ext cx="6161040" cy="3152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2543040" y="4552920"/>
            <a:ext cx="2095560" cy="1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2895480" y="4734000"/>
            <a:ext cx="609840" cy="1962000"/>
          </a:xfrm>
          <a:custGeom>
            <a:avLst/>
            <a:gdLst>
              <a:gd name="textAreaLeft" fmla="*/ 389520 w 609840"/>
              <a:gd name="textAreaRight" fmla="*/ 610200 w 60984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4857840" y="6362640"/>
            <a:ext cx="514440" cy="1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Barcodes_LLP4.ppt291-2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Spine Label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1"/>
          <a:srcRect l="1913" t="16222" r="23216" b="13616"/>
          <a:stretch/>
        </p:blipFill>
        <p:spPr>
          <a:xfrm>
            <a:off x="1158840" y="1762200"/>
            <a:ext cx="7156440" cy="43765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7"/>
          <p:cNvSpPr/>
          <p:nvPr/>
        </p:nvSpPr>
        <p:spPr>
          <a:xfrm>
            <a:off x="2295360" y="5495760"/>
            <a:ext cx="857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1995480" y="2390760"/>
            <a:ext cx="60012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Barcodes_LLP4.ppt288-2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4:48:50Z</dcterms:created>
  <dc:creator>Proctor, Laverne</dc:creator>
  <dc:description/>
  <dc:language>en-US</dc:language>
  <cp:lastModifiedBy>Proctor, Laverne</cp:lastModifiedBy>
  <dcterms:modified xsi:type="dcterms:W3CDTF">2013-03-12T05:16:33Z</dcterms:modified>
  <cp:revision>18</cp:revision>
  <dc:subject/>
  <dc:title>Slide 1</dc:title>
</cp:coreProperties>
</file>